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63F-A7F8-4EA7-AB00-E2334C36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1996-3827-4F2A-924B-947D8C53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079F-CAF7-454B-8732-F697D753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4D6B-549D-4CE9-82FD-58F2B915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57C8-7F78-47C2-BB71-FCE056B8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C87-2681-47EE-9D89-99BF2F6F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53C0-C88C-4779-A966-90CA225F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9945-F52B-4022-B562-B766540C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636B-8CC9-4807-96F4-D607C6CF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5EB-355B-4231-8814-3EC53EA9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5C8F-EA72-40D9-8624-A1BB6788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3775-9866-49EF-A8E8-34347F97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CDD7-8208-44CA-925E-33347F38594C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4920" y="1773360"/>
            <a:ext cx="554508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 така, ние заключаваме, че човек се оправдава чрез вяра, без делата на закона.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620640"/>
            <a:ext cx="2305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9933"/>
                </a:solidFill>
                <a:latin typeface="Tahoma"/>
              </a:rPr>
              <a:t>Рим. 3: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08360" y="2492280"/>
            <a:ext cx="3456000" cy="393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ащото грехът няма да ви владее, понеже не сте под закон, а под благодат.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”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                       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i="1" lang="bg-BG" sz="2800" spc="-1" strike="noStrike">
                <a:solidFill>
                  <a:srgbClr val="ff9933"/>
                </a:solidFill>
                <a:latin typeface="Tahoma"/>
              </a:rPr>
              <a:t>Рим. 6: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0920" y="115920"/>
            <a:ext cx="4176720" cy="75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 Господ Бог заповяда на човека, казвайки: От всяко дърво в градината свободно да ядеш; но от дървото за познаване доброто и злото, да не ядеш от него; защото в деня, когато ядеш от него, непременно ще умреш.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9933"/>
                </a:solidFill>
                <a:latin typeface="Tahoma"/>
              </a:rPr>
              <a:t>Битие 2:16,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4920" y="1547640"/>
            <a:ext cx="5545080" cy="557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А 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знаем, ч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е каквото казва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 закон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ът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казва го за ония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които са под закона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за да се затулят устата на всекиго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, и 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цял свят да се доведе под съдбата на 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Бог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защото ни една твар няма да се оправдае пред Него чрез 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ела и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зисквани от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 закона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, понеже чрез закона става само познанието на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 грех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32000" y="620640"/>
            <a:ext cx="30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9933"/>
                </a:solidFill>
                <a:latin typeface="Tahoma"/>
              </a:rPr>
              <a:t>Рим. 3:19,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9640" y="836640"/>
            <a:ext cx="4319640" cy="496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«Бог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зпрат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в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я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Единород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Син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К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йт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с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роди от жен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роди се и под закон, за д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уп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они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които бяха под закона, та да получим осиновение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» </a:t>
            </a:r>
            <a:r>
              <a:rPr b="0" i="1" lang="ru-RU" sz="3200" spc="-1" strike="noStrike">
                <a:solidFill>
                  <a:srgbClr val="ff9933"/>
                </a:solidFill>
                <a:latin typeface="Tahoma"/>
              </a:rPr>
              <a:t>(Гал.4:4,5).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643280" y="2894040"/>
            <a:ext cx="4500720" cy="399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«В К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го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[Хрис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] им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м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упление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о си чрез к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вта Му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прощение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о на прегрешенията н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с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ред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богатст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то на Неговат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благодат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33"/>
                </a:solidFill>
                <a:latin typeface="Tahoma"/>
              </a:rPr>
              <a:t>(Еф. 1:7).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11280" y="1989000"/>
            <a:ext cx="3600360" cy="332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“…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ащото умряхте, и животът ви е скрит с Христа в Бога.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”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bg-BG" sz="3200" spc="-1" strike="noStrike">
                <a:solidFill>
                  <a:srgbClr val="ff9933"/>
                </a:solidFill>
                <a:latin typeface="Tahoma"/>
              </a:rPr>
              <a:t>Колосяни 3:3</a:t>
            </a:r>
            <a:r>
              <a:rPr b="0" lang="bg-BG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-27000"/>
            <a:ext cx="5076720" cy="78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Защото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 истин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а ви казвам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: докле пре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мине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 неб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ет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о и земя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та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, ни 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на йота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,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 ни 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на 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точка от закона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 н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яма да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 пре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мине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д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ока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то всичко не се сбъдне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. И т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ъй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, к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ой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то наруши 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н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а от тия най-малки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 заповед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и и научи така човеците, най-малък ще се нарече в небесното царство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; а к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ой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 ги изпълни и 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научи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 така човеците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, то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й ще се нарече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 велик в 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небесното ц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арств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»       </a:t>
            </a:r>
            <a:r>
              <a:rPr b="0" i="1" lang="ru-RU" sz="2800" spc="-1" strike="noStrike">
                <a:solidFill>
                  <a:srgbClr val="ff9933"/>
                </a:solidFill>
                <a:latin typeface="Tahoma"/>
              </a:rPr>
              <a:t>М</a:t>
            </a:r>
            <a:r>
              <a:rPr b="0" i="1" lang="bg-BG" sz="2800" spc="-1" strike="noStrike">
                <a:solidFill>
                  <a:srgbClr val="ff9933"/>
                </a:solidFill>
                <a:latin typeface="Tahoma"/>
              </a:rPr>
              <a:t>ат</a:t>
            </a:r>
            <a:r>
              <a:rPr b="0" i="1" lang="ru-RU" sz="2800" spc="-1" strike="noStrike">
                <a:solidFill>
                  <a:srgbClr val="ff9933"/>
                </a:solidFill>
                <a:latin typeface="Tahoma"/>
              </a:rPr>
              <a:t>. 5:18,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76360" y="692280"/>
            <a:ext cx="26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44280"/>
            <a:ext cx="7740720" cy="717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то идват дни, когато ще сключа с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Израил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вия дом и с Ю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д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вия дом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ов завет, не так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в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завет, как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вто направих с бащите им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в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деня, когато ги хванах за ръка, за да ги изведа из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Египетск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та зем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;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ащото те не устояха в завета М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..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ащото, е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заве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т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к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й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ще направя с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зраиле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я дом след ония дн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казв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Господ: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Ще полож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законите Си в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ума им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и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ще ги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напиш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 в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ц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а им; Аз щ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б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д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 техен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Бог,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 те ще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д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 Мои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люд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33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9933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9933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9933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9933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9933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9933"/>
                </a:solidFill>
                <a:latin typeface="Tahoma"/>
              </a:rPr>
              <a:t>Евр. 8:8—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1080" cy="754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39640" y="476280"/>
            <a:ext cx="8353440" cy="73080"/>
          </a:xfrm>
          <a:prstGeom prst="rect">
            <a:avLst/>
          </a:prstGeom>
        </p:spPr>
        <p:txBody>
          <a:bodyPr wrap="none" fromWordArt="1" lIns="90000" rIns="90000" tIns="26640" bIns="26640" anchor="t" anchorCtr="1">
            <a:prstTxWarp prst="textArchUp">
              <a:avLst>
                <a:gd name="adj" fmla="val 11270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0800000"/>
                </a:gradFill>
                <a:latin typeface="Tahoma"/>
              </a:rPr>
              <a:t>Закон и благод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0800000"/>
              </a:gradFill>
              <a:latin typeface="Tahoma"/>
              <a:ea typeface="Tahom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4920" y="1341360"/>
            <a:ext cx="532908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З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щото аз чрез з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она ум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ях спрям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закона,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а да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ж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ея з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Бога.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С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нах се с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Хрис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и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сега веч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е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з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жи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но Христос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живее в мене; а животът, който сега живея в тялото, живея го с вярата, която е в Божия Син, Който ме възлюби и предаде Себе Си за мене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69228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33"/>
                </a:solidFill>
                <a:latin typeface="Tahoma"/>
              </a:rPr>
              <a:t>Гал. 2:19,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4920" y="1268280"/>
            <a:ext cx="6769080" cy="606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Тогава какво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?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Да грешим ли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защото не сме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под закон, а под благодат?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Да не бъде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. Не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 знаете ли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, ч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кому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то предавате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себ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е си като послушни слуги, слуги сте на оня, комуто се покорявате, било на греха, който докарва смърт, или на послушанието, което докарва правд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? Благодарение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обаче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Богу, ч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е когато бяхте слуги н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греха,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вие се покорихте от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ц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е на оня образец на вероучението, в който бяхте обучени и освободени от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греха, ста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нахте слуги н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правд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ат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47640" y="692280"/>
            <a:ext cx="2592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33"/>
                </a:solidFill>
                <a:latin typeface="Tahoma"/>
              </a:rPr>
              <a:t>Рим. 6:15—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4920" y="1398600"/>
            <a:ext cx="5616720" cy="545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ащото вие, братя, н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вобод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 бяхт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риз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ан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само не употребявайте с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обод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а си ка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овод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з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уг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жд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не н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л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тт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; н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любов служете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си един н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друг.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ащото целият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закон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се изпълнява в една дума, сиреч в та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: «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Да обичаш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ближн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я с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как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еб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 си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692280"/>
            <a:ext cx="2592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33"/>
                </a:solidFill>
                <a:latin typeface="Tahoma"/>
              </a:rPr>
              <a:t>Гал. 5:13, 1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1773360"/>
            <a:ext cx="3960720" cy="496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«Преб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двайте в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М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не, и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з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в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вас. Как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о пръчката не може да даде плод от самосебе си, ако не остане на лозата, така и вие не можете, ако не пребъдете в Мен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»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92280"/>
            <a:ext cx="2087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33"/>
                </a:solidFill>
                <a:latin typeface="Tahoma"/>
              </a:rPr>
              <a:t>Ин. 15:4,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156360" y="911160"/>
            <a:ext cx="2987640" cy="643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…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 да избави всички ония, които, поради страха от смъртта, през целия си живот са били подчинени на робство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.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bg-BG" sz="3200" spc="-1" strike="noStrike">
                <a:solidFill>
                  <a:srgbClr val="ff9933"/>
                </a:solidFill>
                <a:latin typeface="Tahoma"/>
              </a:rPr>
              <a:t>Евреи 2:15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508720" y="620640"/>
            <a:ext cx="33843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92720" y="0"/>
            <a:ext cx="38512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Затова трябваше да се оприличи във всичко на братята Си, за да бъде милостив и верен първосвещеник в отношение към Бога, за да извърши умилостивение за греховете на люд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Понеже в това дето и сам Той пострада като изкушен, може и на изкушаваните да помага.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”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800" spc="-1" strike="noStrike">
                <a:solidFill>
                  <a:srgbClr val="ff9933"/>
                </a:solidFill>
                <a:latin typeface="Arial"/>
              </a:rPr>
              <a:t>Евреи 2:17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,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4920" y="2292480"/>
            <a:ext cx="561672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ащото г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ех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т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ма да ви владее, понеже не сте под закон, а под благодат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627120"/>
            <a:ext cx="223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33"/>
                </a:solidFill>
                <a:latin typeface="Tahoma"/>
              </a:rPr>
              <a:t>Рим. 6: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5920"/>
            <a:ext cx="9144000" cy="524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Ти вярваш, че има 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само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 един Бог, добре правиш; и бесовете вярват и треперят.</a:t>
            </a: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Обаче искаш ли да познаеш, о суетни човече, че вяра без дела е безплодна?</a:t>
            </a:r>
            <a:r>
              <a:rPr b="1" lang="bg-BG" sz="2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Авраам, нашият отец, не оправда ли се чрез дела като принесе сина си Исаака на жертвеника?</a:t>
            </a: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Ти виждаш, че вярата действуваше заедно с делата му, и че от делата се усъвършенствува вярата;</a:t>
            </a:r>
            <a:r>
              <a:rPr b="1" lang="bg-BG" sz="2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и изпълни се писанието, което казва: "Авраам повярва в Бога; и това му се вмени за правда"; и се нарече Божий приятел.</a:t>
            </a: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Виждате, че чрез дела се оправдава човек, а не само чрез вяра…</a:t>
            </a: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1" lang="bg-BG" sz="2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Защото, както тялото отделено от духа е мъртво, така и вярата отделена от дела е мъртва.</a:t>
            </a: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03640" y="5157720"/>
            <a:ext cx="2881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Яков 2:20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4920" y="1341360"/>
            <a:ext cx="489744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гава какво? Да речем ли: Нека останем в греха, за да се умножи благодат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Да не бъде! Ние, които сме умрели към греха, как ще живеем вече в него</a:t>
            </a:r>
            <a:r>
              <a:rPr b="0" lang="bg-BG" sz="36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627120"/>
            <a:ext cx="244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33"/>
                </a:solidFill>
                <a:latin typeface="Tahoma"/>
              </a:rPr>
              <a:t>Рим. 6:1</a:t>
            </a:r>
            <a:r>
              <a:rPr b="0" i="1" lang="en-US" sz="3600" spc="-1" strike="noStrike">
                <a:solidFill>
                  <a:srgbClr val="ff9933"/>
                </a:solidFill>
                <a:latin typeface="Tahoma"/>
              </a:rPr>
              <a:t>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920" y="1631880"/>
            <a:ext cx="4897440" cy="496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Благодарение, обаче, Богу, че като бяхте слуги на греха, вие се покорихте от сърце на оня образец на вероучението, в който бяхте обучени,и, освободени от греха, станахте слуги на правд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16000" y="627120"/>
            <a:ext cx="302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33"/>
                </a:solidFill>
                <a:latin typeface="Tahoma"/>
              </a:rPr>
              <a:t>Рим. 6:1</a:t>
            </a:r>
            <a:r>
              <a:rPr b="0" i="1" lang="en-US" sz="3600" spc="-1" strike="noStrike">
                <a:solidFill>
                  <a:srgbClr val="ff9933"/>
                </a:solidFill>
                <a:latin typeface="Tahoma"/>
              </a:rPr>
              <a:t>7,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84" dur="indefinite" restart="never" nodeType="tmRoot">
          <p:childTnLst>
            <p:seq>
              <p:cTn id="18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mediacall" presetID="2">
                                  <p:stCondLst>
                                    <p:cond delay="1000"/>
                                  </p:stCondLst>
                                  <p:childTnLst>
                                    <p:cmd type="call" cmd="togglePause">
                                      <p:cBhvr>
                                        <p:cTn id="189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87280" y="1700280"/>
            <a:ext cx="7956720" cy="399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1. На п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поглед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закон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и благода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а с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ротиворечат. Закон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т изискв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ослушан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к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услов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 з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пасен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i="1" lang="bg-BG" sz="3200" spc="-1" strike="noStrike">
                <a:solidFill>
                  <a:srgbClr val="ffffcc"/>
                </a:solidFill>
                <a:latin typeface="Tahoma"/>
              </a:rPr>
              <a:t>виж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Рим. 10:5),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в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същото врем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к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га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благода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редлага спасение 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в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вид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н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без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змезд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н дар независимо от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звършенит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дел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9933"/>
                </a:solidFill>
                <a:latin typeface="Tahoma"/>
              </a:rPr>
              <a:t>(</a:t>
            </a:r>
            <a:r>
              <a:rPr b="0" i="1" lang="bg-BG" sz="3200" spc="-1" strike="noStrike">
                <a:solidFill>
                  <a:srgbClr val="ff9933"/>
                </a:solidFill>
                <a:latin typeface="Tahoma"/>
              </a:rPr>
              <a:t>виж</a:t>
            </a:r>
            <a:r>
              <a:rPr b="0" lang="ru-RU" sz="32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9933"/>
                </a:solidFill>
                <a:latin typeface="Tahoma"/>
              </a:rPr>
              <a:t>Еф. 2:8, 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6165720"/>
            <a:ext cx="6048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19280" y="44280"/>
            <a:ext cx="7524720" cy="64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2. Библия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т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учи, ч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е всеки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христи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нин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 се намир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«под благодат, 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не «под закон»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А.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Да си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«под закон»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оз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нач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ава, че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наше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положение пред Бог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а се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определя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 от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наши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те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пост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ки,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изисквани от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закон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Б. С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тояние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«под благодат»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е напълно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противоположно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на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тояни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ето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«под закон». На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мирайки се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под благодат,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ние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н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лно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 се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оправд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ам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на основани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е н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то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ва, което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Христос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 е извършил з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нас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 чрез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Сво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жи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вот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, см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т и в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ъз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кресение.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Да бъдем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«под благодат» означа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, ч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е сме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умр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ли «в Христ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»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з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жи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вот в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греха и ч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наш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ия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жи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вот е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скр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т 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Христ</a:t>
            </a:r>
            <a:r>
              <a:rPr b="0" lang="bg-BG" sz="2800" spc="-1" strike="noStrike">
                <a:solidFill>
                  <a:srgbClr val="ffffcc"/>
                </a:solidFill>
                <a:latin typeface="Tahoma"/>
              </a:rPr>
              <a:t>ос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9933"/>
                </a:solidFill>
                <a:latin typeface="Tahoma"/>
              </a:rPr>
              <a:t>(</a:t>
            </a:r>
            <a:r>
              <a:rPr b="0" i="1" lang="bg-BG" sz="2800" spc="-1" strike="noStrike">
                <a:solidFill>
                  <a:srgbClr val="ff9933"/>
                </a:solidFill>
                <a:latin typeface="Tahoma"/>
              </a:rPr>
              <a:t>виж</a:t>
            </a:r>
            <a:r>
              <a:rPr b="0" lang="ru-RU" sz="28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9933"/>
                </a:solidFill>
                <a:latin typeface="Tahoma"/>
              </a:rPr>
              <a:t>Кол. 3: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8000" y="6165720"/>
            <a:ext cx="6048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187280" y="189000"/>
            <a:ext cx="7956720" cy="545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3. Преб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дване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од благодат не означ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премахване н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закона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аш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ж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от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 Оправдание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о чрез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е ун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щ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ж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закон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но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утвърждава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закон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4. Ког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о сме бил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од закон, наш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роблем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 не с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б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ли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създадени от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закон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а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т нас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ам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 Закон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т 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вят, праведен и доб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.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Ние сме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л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ск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хор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см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род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д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 под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ств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о н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грех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9933"/>
                </a:solidFill>
                <a:latin typeface="Tahoma"/>
              </a:rPr>
              <a:t>(</a:t>
            </a:r>
            <a:r>
              <a:rPr b="0" i="1" lang="bg-BG" sz="3200" spc="-1" strike="noStrike">
                <a:solidFill>
                  <a:srgbClr val="ff9933"/>
                </a:solidFill>
                <a:latin typeface="Tahoma"/>
              </a:rPr>
              <a:t>виж</a:t>
            </a:r>
            <a:r>
              <a:rPr b="0" i="1" lang="ru-RU" sz="3200" spc="-1" strike="noStrike">
                <a:solidFill>
                  <a:srgbClr val="ff9933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9933"/>
                </a:solidFill>
                <a:latin typeface="Tahoma"/>
              </a:rPr>
              <a:t>Рим. 7:12, 1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6165720"/>
            <a:ext cx="6048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908000" y="6165720"/>
            <a:ext cx="6048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81000"/>
            <a:ext cx="781200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5. Закон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т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икога не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е бил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редств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з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пасен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й винаги е бил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м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ярка з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христ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нск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ж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от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 Благода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е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н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д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вобод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 д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ж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еем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так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как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о на нас ни се иск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6.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Да ж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еем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«под благодат»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знач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в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чрез 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 д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озвол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м н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Хрис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с д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ж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е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7. П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д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уд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та з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ослушан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ри ж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от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«под закон»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трах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от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аказан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, 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ри ж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от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«под благодат»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любов и признателно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03280" y="260280"/>
            <a:ext cx="7740720" cy="643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8.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ко с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грешим под благодат,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ние не губим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аше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 оправдан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, но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скрен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е христ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ни не мог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 леком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лено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да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од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лж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д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греш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, н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мирайки с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«под благода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9.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Ние трябва да се научим д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енав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ждам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грех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е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т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трах, ч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 ще се лишим от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еб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а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ащо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аш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грех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в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р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ковах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Хрис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с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н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к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и прод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лж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д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озо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ят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Негово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име </a:t>
            </a:r>
            <a:r>
              <a:rPr b="0" i="1" lang="ru-RU" sz="3200" spc="-1" strike="noStrike">
                <a:solidFill>
                  <a:srgbClr val="ff9933"/>
                </a:solidFill>
                <a:latin typeface="Tahoma"/>
              </a:rPr>
              <a:t>(</a:t>
            </a:r>
            <a:r>
              <a:rPr b="0" i="1" lang="bg-BG" sz="3200" spc="-1" strike="noStrike">
                <a:solidFill>
                  <a:srgbClr val="ff9933"/>
                </a:solidFill>
                <a:latin typeface="Tahoma"/>
              </a:rPr>
              <a:t>виж</a:t>
            </a:r>
            <a:r>
              <a:rPr b="0" lang="ru-RU" sz="32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9933"/>
                </a:solidFill>
                <a:latin typeface="Tahoma"/>
              </a:rPr>
              <a:t>Гал. 3:13; Евр. 6:4—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6165720"/>
            <a:ext cx="6048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867280" y="260280"/>
            <a:ext cx="3276720" cy="619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Римляни 10:5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Защото Моисей пише, че човек, който върши правдата, която е чрез пазенето на закона, ще живее чрез не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60280"/>
            <a:ext cx="3816360" cy="496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9933"/>
                </a:solidFill>
                <a:latin typeface="Tahoma"/>
              </a:rPr>
              <a:t>Ефесяни 2:8,9</a:t>
            </a:r>
            <a:r>
              <a:rPr b="1" lang="bg-BG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ащото по благодат сте спасени чрез вяра, и то не от сами вас; това е дар от Бога; не чрез дела, за да се не похвали н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48360" y="44280"/>
            <a:ext cx="3995640" cy="643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9933"/>
                </a:solidFill>
                <a:latin typeface="Tahoma"/>
              </a:rPr>
              <a:t>Галатяни 3:10</a:t>
            </a:r>
            <a:r>
              <a:rPr b="1" lang="bg-BG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ащото всички, които се облягат на дела, изисквани от закона, са под клетва, понеже е писано: "Проклет всеки, който не постоянствува да изпълнява всичко писано в книгата на закона.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44280"/>
            <a:ext cx="316872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9933"/>
                </a:solidFill>
                <a:latin typeface="Tahoma"/>
              </a:rPr>
              <a:t>Римляни 4: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…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 на този, който не върши дела, а вярва в Онзи, Който оправдава нечестивия, неговата вяра му се вменява за правда.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4120"/>
            <a:ext cx="9144000" cy="511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И тъй, какво да кажем? Това, че езичниците, които не търсеха правда, получиха правда, и то правда, която е чрез вярване;</a:t>
            </a:r>
            <a:r>
              <a:rPr b="1" lang="bg-BG" sz="3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а Израил, който търсеше закон за придобиване правда, не стигна до такъв закон.</a:t>
            </a: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Защо? затова, че не го търси чрез вярване, а някак си чрез дела. Те се спънаха о камъка, о който хората се спъват;</a:t>
            </a:r>
            <a:r>
              <a:rPr b="1" lang="bg-BG" sz="3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както е писан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"Ето, полагам в Сион камък, о който да се спъват, и канара, в която да се съблазняват;</a:t>
            </a: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И който вярва в Него не ще се посрами.</a:t>
            </a: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5157720"/>
            <a:ext cx="6480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9933"/>
                </a:solidFill>
                <a:latin typeface="Tahoma"/>
              </a:rPr>
              <a:t>Послание до Римляните 9:30</a:t>
            </a: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920" y="1773360"/>
            <a:ext cx="554508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…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ато знаем все пак, че човек не се оправдава чрез дела по закона, а само чрез вяра в Исуса Христа, - и ние повярвахме в Христа Исуса, за да се оправдаем чрез вяра в Христа, а не чрез дела по закона; защото чрез дела по закона няма да се оправдае никоя твар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620640"/>
            <a:ext cx="216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9900"/>
                </a:solidFill>
                <a:latin typeface="Tahoma"/>
              </a:rPr>
              <a:t>Гал. 2: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920" y="1773360"/>
            <a:ext cx="554508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ие, които желаете да се оправдавате чрез закона сте се отлъчили от Христа, отпаднали сте от благодатта.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620640"/>
            <a:ext cx="216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9900"/>
                </a:solidFill>
                <a:latin typeface="Tahoma"/>
              </a:rPr>
              <a:t>Гал. 5: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2276640"/>
            <a:ext cx="367344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ака, законът стана за нас детеводител, да ни доведе при Христа, за да се оправдаем чрез вяра.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689040"/>
            <a:ext cx="3024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9933"/>
                </a:solidFill>
                <a:latin typeface="Tahoma"/>
              </a:rPr>
              <a:t>Галатяни 3: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2:19:12Z</dcterms:created>
  <dc:creator>zxy</dc:creator>
  <dc:description/>
  <dc:language>en-US</dc:language>
  <cp:lastModifiedBy>zxy</cp:lastModifiedBy>
  <dcterms:modified xsi:type="dcterms:W3CDTF">2003-09-19T14:10:58Z</dcterms:modified>
  <cp:revision>14</cp:revision>
  <dc:subject/>
  <dc:title>Slide 1</dc:title>
</cp:coreProperties>
</file>